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416-AD23-4B3B-BFFB-FF671D29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D6A-4B27-4862-AE33-6A3C949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CDE-4327-4713-B682-2C639ED7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607-D476-4392-BB1E-8AC3BC0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56B3-0F41-4DE1-8EA5-0E94037A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DD5-078F-490A-B40E-3D014AF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632-9BC2-4148-AE84-09D151A1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5C60-3A93-4304-9C8A-22D56B2B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6F1-2A13-4CEE-85ED-9DA760E0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1BA-7CF1-4880-AB41-366063D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A942-21A7-4DFA-A85E-BB02DE3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410-4144-406C-9658-CDEFC72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A86B-F484-4876-BCEC-507F3CC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2F7B-A618-4F7A-AF7B-748DE57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0F7D-47A3-4104-A4E5-FF200BBF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7243-2CC7-40C3-B6DA-19A47812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2223-BC16-499B-86D3-74AA4BD4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F6C-2A8E-40D4-BC37-AC4B5D6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469-9A11-49DE-B9EC-85D13E43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39F-CB61-4857-B863-9766748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CA6-433C-4DB0-B35D-024FFE6C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E0E-2BB1-44FA-A7F4-28EF4AA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640-4339-4EDF-9EC6-5245F3B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4E0-2D35-4B83-BE01-8DB9349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unstler Script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3409-FFF0-4E54-ACAC-6FDB42DD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unstler Script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unstler Script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Kunstler Script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DBC9-0E7B-4476-BD64-18C9082AE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waytorussia.net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morrisonworldnews.com/wp-content/uploads/2010/08/Russia-donates-250-buses-to-Nicaragua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farm4.static.flickr.com/3096/3162652288_15abcce6f8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ush Script MT"/>
              </a:rPr>
              <a:t>R</a:t>
            </a:r>
            <a:r>
              <a:rPr b="0" lang="en-US" sz="5400" spc="-1" strike="noStrike">
                <a:solidFill>
                  <a:srgbClr val="ff33cc"/>
                </a:solidFill>
                <a:latin typeface="Brush Script MT"/>
              </a:rPr>
              <a:t>u</a:t>
            </a:r>
            <a:r>
              <a:rPr b="0" lang="en-US" sz="5400" spc="-1" strike="noStrike">
                <a:solidFill>
                  <a:srgbClr val="f56f0b"/>
                </a:solidFill>
                <a:latin typeface="Brush Script MT"/>
              </a:rPr>
              <a:t>s</a:t>
            </a:r>
            <a:r>
              <a:rPr b="0" lang="en-US" sz="5400" spc="-1" strike="noStrike">
                <a:solidFill>
                  <a:srgbClr val="ffff00"/>
                </a:solidFill>
                <a:latin typeface="Brush Script MT"/>
              </a:rPr>
              <a:t>s</a:t>
            </a:r>
            <a:r>
              <a:rPr b="0" lang="en-US" sz="5400" spc="-1" strike="noStrike">
                <a:solidFill>
                  <a:srgbClr val="1ec026"/>
                </a:solidFill>
                <a:latin typeface="Brush Script MT"/>
              </a:rPr>
              <a:t>i</a:t>
            </a:r>
            <a:r>
              <a:rPr b="0" lang="en-US" sz="5400" spc="-1" strike="noStrike">
                <a:solidFill>
                  <a:srgbClr val="007e39"/>
                </a:solidFill>
                <a:latin typeface="Brush Script MT"/>
              </a:rPr>
              <a:t>a</a:t>
            </a:r>
            <a:r>
              <a:rPr b="0" lang="en-US" sz="5400" spc="-1" strike="noStrike">
                <a:solidFill>
                  <a:srgbClr val="0090e5"/>
                </a:solidFill>
                <a:latin typeface="Brush Script MT"/>
              </a:rPr>
              <a:t>n</a:t>
            </a:r>
            <a:r>
              <a:rPr b="0" lang="en-US" sz="5400" spc="-1" strike="noStrike">
                <a:solidFill>
                  <a:srgbClr val="29ffff"/>
                </a:solidFill>
                <a:latin typeface="Brush Script MT"/>
              </a:rPr>
              <a:t> </a:t>
            </a:r>
            <a:r>
              <a:rPr b="0" lang="en-US" sz="5400" spc="-1" strike="noStrike">
                <a:solidFill>
                  <a:srgbClr val="004472"/>
                </a:solidFill>
                <a:latin typeface="Brush Script MT"/>
              </a:rPr>
              <a:t>M</a:t>
            </a:r>
            <a:r>
              <a:rPr b="0" lang="en-US" sz="5400" spc="-1" strike="noStrike">
                <a:solidFill>
                  <a:srgbClr val="7030a0"/>
                </a:solidFill>
                <a:latin typeface="Brush Script MT"/>
              </a:rPr>
              <a:t>o</a:t>
            </a:r>
            <a:r>
              <a:rPr b="0" lang="en-US" sz="5400" spc="-1" strike="noStrike">
                <a:solidFill>
                  <a:srgbClr val="6a025b"/>
                </a:solidFill>
                <a:latin typeface="Brush Script MT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Brush Script MT"/>
              </a:rPr>
              <a:t>e</a:t>
            </a:r>
            <a:r>
              <a:rPr b="0" lang="en-US" sz="5400" spc="-1" strike="noStrike">
                <a:solidFill>
                  <a:srgbClr val="c4c4c4"/>
                </a:solidFill>
                <a:latin typeface="Brush Script MT"/>
              </a:rPr>
              <a:t>m</a:t>
            </a:r>
            <a:r>
              <a:rPr b="0" lang="en-US" sz="5400" spc="-1" strike="noStrike">
                <a:solidFill>
                  <a:srgbClr val="6d6d6d"/>
                </a:solidFill>
                <a:latin typeface="Brush Script MT"/>
              </a:rPr>
              <a:t>e</a:t>
            </a:r>
            <a:r>
              <a:rPr b="0" lang="en-US" sz="5400" spc="-1" strike="noStrike">
                <a:solidFill>
                  <a:srgbClr val="161616"/>
                </a:solidFill>
                <a:latin typeface="Brush Script MT"/>
              </a:rPr>
              <a:t>n</a:t>
            </a:r>
            <a:r>
              <a:rPr b="0" lang="en-US" sz="5400" spc="-1" strike="noStrike">
                <a:solidFill>
                  <a:srgbClr val="002060"/>
                </a:solidFill>
                <a:latin typeface="Brush Script MT"/>
              </a:rPr>
              <a:t>t</a:t>
            </a:r>
            <a:r>
              <a:rPr b="0" lang="en-US" sz="5400" spc="-1" strike="noStrike">
                <a:solidFill>
                  <a:srgbClr val="29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By: </a:t>
            </a:r>
            <a:r>
              <a:rPr b="0" lang="en-US" sz="3200" spc="-1" strike="noStrike">
                <a:solidFill>
                  <a:srgbClr val="f46414"/>
                </a:solidFill>
                <a:latin typeface="Gigi"/>
              </a:rPr>
              <a:t>Sai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igi"/>
              </a:rPr>
              <a:t>Allu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Gigi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gi"/>
              </a:rPr>
              <a:t>Nhi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Gigi"/>
              </a:rPr>
              <a:t>Tru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Gigi"/>
              </a:rPr>
              <a:t>Period </a:t>
            </a:r>
            <a:r>
              <a:rPr b="0" lang="en-US" sz="3200" spc="-1" strike="noStrike">
                <a:solidFill>
                  <a:srgbClr val="c4c4c4"/>
                </a:solidFill>
                <a:latin typeface="Gigi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d6d"/>
                </a:solidFill>
                <a:latin typeface="Gigi"/>
              </a:rPr>
              <a:t>Enjoy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MS900054298[1]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277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Ways of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B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Ca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Subw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Bicy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Walk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Trai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Carriages pulled by hors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ffff"/>
                </a:solidFill>
                <a:latin typeface="Brush Script MT"/>
              </a:rPr>
              <a:t>Inland Waterw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horsey"/>
          <p:cNvPicPr/>
          <p:nvPr/>
        </p:nvPicPr>
        <p:blipFill>
          <a:blip r:embed="rId1"/>
          <a:stretch/>
        </p:blipFill>
        <p:spPr>
          <a:xfrm>
            <a:off x="4724280" y="3581280"/>
            <a:ext cx="4419720" cy="3038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train_front"/>
          <p:cNvPicPr/>
          <p:nvPr/>
        </p:nvPicPr>
        <p:blipFill>
          <a:blip r:embed="rId2"/>
          <a:stretch/>
        </p:blipFill>
        <p:spPr>
          <a:xfrm>
            <a:off x="6629400" y="685800"/>
            <a:ext cx="2127240" cy="228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Bradley Hand ITC"/>
              </a:rPr>
              <a:t>Disadvant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Transportation takes a long and is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Goes through the Ural Mounta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Forte"/>
              </a:rPr>
              <a:t>Inland waterways are important, but many long rivers drain north into the frigid Arctic Ocean and freeze in the win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Ural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Snap ITC"/>
              </a:rPr>
              <a:t>Problem of the Land that Affects Transport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Russia is very large, so Trans-Siberian Railroad costs a lot of money. Especially from Moscow to Vladivost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Has very few roa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Handwriting"/>
              </a:rPr>
              <a:t>In the east part it is very mountai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russian-underground-metro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Segoe Print"/>
              </a:rPr>
              <a:t>Transportation in Mosco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metro is all one zone there is no special z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metro is open from 5:20 A.M to 1:00 A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ijaya"/>
                <a:ea typeface="Vijaya"/>
              </a:rPr>
              <a:t>The rush hours for the metro in Moscow are 8:00 A.M. to 9:00 A.M. and 17:00 P.M. to 19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6414"/>
                </a:solidFill>
                <a:latin typeface="Juice ITC"/>
              </a:rPr>
              <a:t>Getting around in Moscow by metro and public transport |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Juice ITC"/>
                <a:hlinkClick r:id="rId2"/>
              </a:rPr>
              <a:t>www.waytorussia.net/</a:t>
            </a:r>
            <a:r>
              <a:rPr b="1" lang="en-US" sz="3200" spc="-1" strike="noStrike">
                <a:solidFill>
                  <a:srgbClr val="f56f0b"/>
                </a:solidFill>
                <a:latin typeface="Juice ITC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que Transpor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Content Placeholder 3" descr="russian transportation.jpg"/>
          <p:cNvPicPr/>
          <p:nvPr/>
        </p:nvPicPr>
        <p:blipFill>
          <a:blip r:embed="rId1"/>
          <a:stretch/>
        </p:blipFill>
        <p:spPr>
          <a:xfrm>
            <a:off x="5410080" y="2438280"/>
            <a:ext cx="3733920" cy="441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Russian trains 4"/>
          <p:cNvPicPr/>
          <p:nvPr/>
        </p:nvPicPr>
        <p:blipFill>
          <a:blip r:embed="rId2"/>
          <a:stretch/>
        </p:blipFill>
        <p:spPr>
          <a:xfrm>
            <a:off x="0" y="1666800"/>
            <a:ext cx="5334120" cy="519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russian_waterways_ship_2pete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ffff"/>
                </a:solidFill>
                <a:latin typeface="French Script MT"/>
              </a:rPr>
              <a:t>Water Transportation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Many Russian rivers run from south to north making their use difficult during the winter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During the winter most of the ports are covered in snow and ice which makes it hard to move aroun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ec026"/>
                </a:solidFill>
                <a:latin typeface="Gabriola"/>
              </a:rPr>
              <a:t>When trading, they must transport their goods another 200 miles to reach the nearest part of inland Russi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MS900069706[1].wav" descr=""/>
          <p:cNvPicPr/>
          <p:nvPr/>
        </p:nvPicPr>
        <p:blipFill>
          <a:blip r:embed="rId1"/>
          <a:stretch/>
        </p:blipFill>
        <p:spPr>
          <a:xfrm>
            <a:off x="5241960" y="6400800"/>
            <a:ext cx="549360" cy="76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throughput_of_russian_ports_in_9_months_of_2010_increased_by_67__to_39332_million_tonnes"/>
          <p:cNvPicPr/>
          <p:nvPr/>
        </p:nvPicPr>
        <p:blipFill>
          <a:blip r:embed="rId2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police_car_2"/>
          <p:cNvPicPr/>
          <p:nvPr/>
        </p:nvPicPr>
        <p:blipFill>
          <a:blip r:embed="rId3"/>
          <a:stretch/>
        </p:blipFill>
        <p:spPr>
          <a:xfrm>
            <a:off x="1676520" y="2057400"/>
            <a:ext cx="4667040" cy="32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1"/>
          <p:cNvPicPr/>
          <p:nvPr/>
        </p:nvPicPr>
        <p:blipFill>
          <a:blip r:embed="rId4"/>
          <a:stretch/>
        </p:blipFill>
        <p:spPr>
          <a:xfrm>
            <a:off x="0" y="4681440"/>
            <a:ext cx="3271680" cy="217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48200" y="4370400"/>
            <a:ext cx="3295800" cy="24876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3276720" y="228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Kristen ITC"/>
              </a:rPr>
              <a:t>Pictures!!!!!!!!!! </a:t>
            </a:r>
            <a:endParaRPr b="0" lang="en-US" sz="2800" spc="-1" strike="noStrike">
              <a:solidFill>
                <a:srgbClr val="ffffff"/>
              </a:solidFill>
              <a:latin typeface="Kunstler Script"/>
            </a:endParaRPr>
          </a:p>
        </p:txBody>
      </p:sp>
    </p:spTree>
  </p:cSld>
  <p:transition>
    <p:split dir="in" orient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17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5.55556E-006 L -0.29167 0.34444 E">
                                      <p:cBhvr>
                                        <p:cTn id="177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-0.35 -0.32223 E">
                                      <p:cBhvr>
                                        <p:cTn id="18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8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390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2" descr="Aeroflot planes / photo by Teliko82@Flick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3048120" y="1066680"/>
            <a:ext cx="371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242" name="Text Box 18"/>
          <p:cNvSpPr/>
          <p:nvPr/>
        </p:nvSpPr>
        <p:spPr>
          <a:xfrm rot="2349000">
            <a:off x="-568440" y="4494960"/>
            <a:ext cx="446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      </a:t>
            </a: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The End </a:t>
            </a:r>
            <a:r>
              <a:rPr b="0" lang="en-US" sz="66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6600" spc="-1" strike="noStrike">
                <a:solidFill>
                  <a:srgbClr val="0000ff"/>
                </a:solidFill>
                <a:latin typeface="Juice ITC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Kunstler Script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791320" y="4191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unstler Script"/>
            </a:endParaRPr>
          </a:p>
        </p:txBody>
      </p:sp>
      <p:pic>
        <p:nvPicPr>
          <p:cNvPr id="244" name="MS910220041[1]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6"/>
          <p:cNvSpPr/>
          <p:nvPr/>
        </p:nvSpPr>
        <p:spPr>
          <a:xfrm rot="1660200">
            <a:off x="5871600" y="287640"/>
            <a:ext cx="228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5aeff"/>
                </a:solidFill>
                <a:latin typeface="JasmineUPC"/>
                <a:ea typeface="JasmineUPC"/>
              </a:rPr>
              <a:t>Hope you enjoyed it </a:t>
            </a:r>
            <a:r>
              <a:rPr b="0" lang="en-US" sz="5400" spc="-1" strike="noStrike">
                <a:solidFill>
                  <a:srgbClr val="35aeff"/>
                </a:solidFill>
                <a:latin typeface="Wingdings"/>
                <a:ea typeface="Wingdings"/>
              </a:rPr>
              <a:t></a:t>
            </a:r>
            <a:r>
              <a:rPr b="0" lang="en-US" sz="5400" spc="-1" strike="noStrike">
                <a:solidFill>
                  <a:srgbClr val="35aeff"/>
                </a:solidFill>
                <a:latin typeface="JasmineUPC"/>
                <a:ea typeface="JasmineUPC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Kunstler Script"/>
            </a:endParaRPr>
          </a:p>
        </p:txBody>
      </p:sp>
    </p:spTree>
  </p:cSld>
  <p:transition>
    <p:push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67989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18:07Z</dcterms:created>
  <dc:creator>Admimistrator</dc:creator>
  <dc:description/>
  <dc:language>en-US</dc:language>
  <cp:lastModifiedBy>sai pulukuri</cp:lastModifiedBy>
  <dcterms:modified xsi:type="dcterms:W3CDTF">2010-12-21T20:51:28Z</dcterms:modified>
  <cp:revision>23</cp:revision>
  <dc:subject/>
  <dc:title>Russian Movement</dc:title>
</cp:coreProperties>
</file>